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72EC0-B4A1-4BDB-99A9-A2B86DF8F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65BC5-B537-47F0-9D5E-D2E05F08C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B3AE6-B0FA-452B-8619-F2B84BDFF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7E040-5105-4B4D-98EA-9BFA3B840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F8070-5183-4822-8006-8A16DB7F0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D1C71-F642-47DB-BC9B-C2BC1E3D9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6765B-9D98-4313-8A62-3B9812F25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A7CF1-3D46-479E-91A9-0EEEF4B3B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BC938-D49C-4487-885A-EBBAB28C1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1551F-9899-4840-8986-76F33AFBD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D7272-A7B7-4976-A1BD-6D9A5ABBC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87D38-9D3D-4C5A-851C-FA633C330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303DF-A12B-4278-A67C-14BFBCC84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47866-666E-4141-8A08-938724097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1CD65-F65B-4B1D-B5D3-7FDE3CB52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67490-54F6-40D9-9D02-2D1D2574A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46DD90-EC28-41F7-A759-EC6BFF856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0DE16-ADE1-49CE-A68C-A4560C48B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A29EA-5816-4F2F-8925-C8A44F198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7792A-F97A-4D64-A4D2-B5DF3D09D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74E9C-AC11-4A29-9EBB-E5EC6704E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BAE7E-FDEE-4FA8-9F88-B409DC0EB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FA143-474D-4B89-AE35-789B6404B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28B2C-6E1D-4C4B-8BD7-E4EA7FD4B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259F-3BA5-451B-B977-6EDC3D73C8C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8284-5B88-4868-83D2-3EB8BFFDEAA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PERP Internet Reports</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Scalable Vector Graphic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ie chart</a:t>
            </a:r>
            <a:endParaRPr b="0" lang="en-US" sz="4400" spc="-1" strike="noStrike">
              <a:solidFill>
                <a:srgbClr val="dbbd71"/>
              </a:solidFill>
              <a:latin typeface="Arial"/>
            </a:endParaRPr>
          </a:p>
        </p:txBody>
      </p:sp>
      <p:pic>
        <p:nvPicPr>
          <p:cNvPr id="172" name="" descr=""/>
          <p:cNvPicPr/>
          <p:nvPr/>
        </p:nvPicPr>
        <p:blipFill>
          <a:blip r:embed="rId1"/>
          <a:stretch/>
        </p:blipFill>
        <p:spPr>
          <a:xfrm>
            <a:off x="457200" y="990720"/>
            <a:ext cx="8229600" cy="5638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ummary</a:t>
            </a:r>
            <a:endParaRPr b="0" lang="en-US" sz="4400" spc="-1" strike="noStrike">
              <a:solidFill>
                <a:srgbClr val="dbbd71"/>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4,000 distinct graphs and tables can be generated through this applica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application provides SVG modules to generate four types of graphs (line, bar, filled and pie chart) which can be embedded into any html page and easily populated with data (code reu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clusion</a:t>
            </a:r>
            <a:endParaRPr b="0" lang="en-US" sz="4400" spc="-1" strike="noStrike">
              <a:solidFill>
                <a:srgbClr val="dbbd71"/>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application achieved two of the three goals.  The data is presented in the format of PERP’s official reports and it is now being used by PERP to clean-up its databas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not yet part of PERP’s production web-site (not officially available to public) due to the data inaccurac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urpose</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provide public access to Prevention and Emergency Response Program’s database</a:t>
            </a:r>
            <a:endParaRPr b="0" lang="en-US" sz="3200" spc="-1" strike="noStrike">
              <a:solidFill>
                <a:srgbClr val="ffffff"/>
              </a:solidFill>
              <a:latin typeface="Tahoma"/>
            </a:endParaRPr>
          </a:p>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represent the data in a format familiar to DEC employees (tables and graphs)</a:t>
            </a:r>
            <a:endParaRPr b="0" lang="en-US" sz="3200" spc="-1" strike="noStrike">
              <a:solidFill>
                <a:srgbClr val="ffffff"/>
              </a:solidFill>
              <a:latin typeface="Tahoma"/>
            </a:endParaRPr>
          </a:p>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provide summary reports which could point out potential data quality problems and front end problem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y (not) use SVG?</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fre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vailabl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flexible tool for 2-D graphic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easily embedded within html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3C defined and documented</a:t>
            </a:r>
            <a:endParaRPr b="0" lang="en-US" sz="2800" spc="-1" strike="noStrike">
              <a:solidFill>
                <a:srgbClr val="ffffff"/>
              </a:solidFill>
              <a:latin typeface="Tahoma"/>
            </a:endParaRPr>
          </a:p>
        </p:txBody>
      </p:sp>
      <p:sp>
        <p:nvSpPr>
          <p:cNvPr id="15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bedded SVG is not currently supported by Netscape browser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is a minimum of predefined objec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ata Retrieval &amp; Environment</a:t>
            </a:r>
            <a:endParaRPr b="0" lang="en-US" sz="4400" spc="-1" strike="noStrike">
              <a:solidFill>
                <a:srgbClr val="dbbd7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P’s data is stored in two databases on the same MS SQL 7.0 serve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rdSets and Active Server Pages are handled through MS Information Services Serve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SVG graphs, MS IE 5.5 + is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evelopment Environment</a:t>
            </a:r>
            <a:endParaRPr b="0" lang="en-US" sz="4400" spc="-1" strike="noStrike">
              <a:solidFill>
                <a:srgbClr val="dbbd71"/>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cromedia Dreamweaver as ASP and HTML/XML code edito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S SQL Server code editor for Stored Procedu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ain Menu</a:t>
            </a:r>
            <a:endParaRPr b="0" lang="en-US" sz="4400" spc="-1" strike="noStrike">
              <a:solidFill>
                <a:srgbClr val="dbbd71"/>
              </a:solidFill>
              <a:latin typeface="Arial"/>
            </a:endParaRPr>
          </a:p>
        </p:txBody>
      </p:sp>
      <p:pic>
        <p:nvPicPr>
          <p:cNvPr id="164" name="" descr=""/>
          <p:cNvPicPr/>
          <p:nvPr/>
        </p:nvPicPr>
        <p:blipFill>
          <a:blip r:embed="rId1"/>
          <a:stretch/>
        </p:blipFill>
        <p:spPr>
          <a:xfrm>
            <a:off x="1544760" y="1600200"/>
            <a:ext cx="6053040" cy="453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ample Table</a:t>
            </a:r>
            <a:endParaRPr b="0" lang="en-US" sz="4400" spc="-1" strike="noStrike">
              <a:solidFill>
                <a:srgbClr val="dbbd71"/>
              </a:solidFill>
              <a:latin typeface="Arial"/>
            </a:endParaRPr>
          </a:p>
        </p:txBody>
      </p:sp>
      <p:pic>
        <p:nvPicPr>
          <p:cNvPr id="166" name="" descr=""/>
          <p:cNvPicPr/>
          <p:nvPr/>
        </p:nvPicPr>
        <p:blipFill>
          <a:blip r:embed="rId1"/>
          <a:stretch/>
        </p:blipFill>
        <p:spPr>
          <a:xfrm>
            <a:off x="457200" y="1447920"/>
            <a:ext cx="8229600" cy="51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ar and Line Graph</a:t>
            </a:r>
            <a:endParaRPr b="0" lang="en-US" sz="4400" spc="-1" strike="noStrike">
              <a:solidFill>
                <a:srgbClr val="dbbd71"/>
              </a:solidFill>
              <a:latin typeface="Arial"/>
            </a:endParaRPr>
          </a:p>
        </p:txBody>
      </p:sp>
      <p:pic>
        <p:nvPicPr>
          <p:cNvPr id="168" name="" descr=""/>
          <p:cNvPicPr/>
          <p:nvPr/>
        </p:nvPicPr>
        <p:blipFill>
          <a:blip r:embed="rId1"/>
          <a:stretch/>
        </p:blipFill>
        <p:spPr>
          <a:xfrm>
            <a:off x="457200" y="838080"/>
            <a:ext cx="8229600" cy="601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illed and Line Graph</a:t>
            </a:r>
            <a:endParaRPr b="0" lang="en-US" sz="4400" spc="-1" strike="noStrike">
              <a:solidFill>
                <a:srgbClr val="dbbd71"/>
              </a:solidFill>
              <a:latin typeface="Arial"/>
            </a:endParaRPr>
          </a:p>
        </p:txBody>
      </p:sp>
      <p:pic>
        <p:nvPicPr>
          <p:cNvPr id="170" name="" descr=""/>
          <p:cNvPicPr/>
          <p:nvPr/>
        </p:nvPicPr>
        <p:blipFill>
          <a:blip r:embed="rId1"/>
          <a:stretch/>
        </p:blipFill>
        <p:spPr>
          <a:xfrm>
            <a:off x="457200" y="762120"/>
            <a:ext cx="82296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05:17:22Z</dcterms:created>
  <dc:creator>asjr3</dc:creator>
  <dc:description/>
  <dc:language>en-US</dc:language>
  <cp:lastModifiedBy>JReitspies</cp:lastModifiedBy>
  <dcterms:modified xsi:type="dcterms:W3CDTF">2002-11-12T19:56:55Z</dcterms:modified>
  <cp:revision>6</cp:revision>
  <dc:subject/>
  <dc:title>PERP Internet Reports</dc:title>
</cp:coreProperties>
</file>